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jpeg" ContentType="image/jpeg"/>
  <Override PartName="/ppt/media/image8.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9.wmf" ContentType="image/x-wmf"/>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8AD2-6AC9-41C4-87BA-38C9AD131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Tamaño de la comisió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8)</a:t>
            </a:r>
            <a:r>
              <a:rPr b="0" lang="es-ES" sz="1200" spc="-1" strike="noStrike">
                <a:solidFill>
                  <a:srgbClr val="000000"/>
                </a:solidFill>
                <a:latin typeface="Century Gothic"/>
                <a:ea typeface="Times New Roman"/>
              </a:rPr>
              <a:t> Grande no necesariamente significa efectiva. Es más, si la comisión es demasiado grande podría ser contraproducente.</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tamaño de una comisión de planificación podría ser de entre 3 y 9 miembros. Si se encuentra en una iglesia pequeña y solamente puedes encontrar una persona con la que podría trabajar, es mejor tener una comisión de dos en lugar de trabajar sola. Es importante pedirles a los individuos que podrán comprometerse a trabajar con usted, tanto para planificar como para implementar el event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Composición de la comis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importante tener sugerencias de perspectivas variadas. Es mejor si mujeres de varios grupos de edad, de etnia y contexto profesional pueden ser miembros de esta comisión.</a:t>
            </a:r>
            <a:r>
              <a:rPr b="0"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RP-9)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Representantes de varios grupos que se pueden hallar en tu igles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mo podrá ver, varias de estas perspectivas se pueden encontrar en un solo individu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Subcomision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ada miembro de la comisión puede ser asignada para estar a cargo de cierto aspecto del programa. Esa persona a su vez puede formar una subcomisión para trabajar en su asignación. Por ejemplo: María es miembro de la comisión de planificación. Ella es muy musical y es asignada para estar a cargo de la organización de la música. Ella, a su vez, puede formar una comisión de música para que trabaje con ella. La comisión elegirá una directora de canto, una pianista u organista o guitarrista (cualquiera sea el instrumento musical disponible). María a su vez informará el progreso del trabajo de la comisión de música a la comisión de planific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Paso 2. Cómo escoger el tema (RP-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elección del tema debería ser una función de toda la comisión de planificación. Cuando a los miembros se les da la oportunidad de contribuir, les da la satisfacción de que su aporte es valorado y significativo. Entonces tomarán posesión y el programa será ‘nuestro’ en lugar de ‘suy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ál es un proceso efectivo para que la comisión determine un te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 método recomendado es a través de un ejercicio de determinación de las necesidades. Éste es un método simple que ayuda a crear un espíritu de equipo y también anima a tener un acercamiento equilibrado al determinar las necesidades. Una vez que las necesidades son identificadas es fácil determinar la temátic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ta para el presentador: Éste es un ejercicio efectivo para realizar con el grupo. Explique: Éste ejercicio puede ser hecho con la Comisión de los Ministerios de la Mujer, o cualquier otra comisión con la que estás trabajando. Esto también puede hacerse con la junta de Iglesia u otros departament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mostremos este proce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de determinación de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entury Gothic"/>
                <a:ea typeface="Times New Roman"/>
              </a:rPr>
              <a:t>E</a:t>
            </a:r>
            <a:r>
              <a:rPr b="1" lang="es-ES" sz="800" spc="-1" strike="noStrike">
                <a:solidFill>
                  <a:srgbClr val="000000"/>
                </a:solidFill>
                <a:latin typeface="Century Gothic"/>
                <a:ea typeface="Times New Roman"/>
              </a:rPr>
              <a:t>jercicio 1: Identifique tres necesidad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ele a cada miembro de la comisión una hoja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haga una lista de tres áreas que sienta que son necesidades de las mujeres en su Iglesia y que le gustaría que sean tratados en un programa. Por favor no hablen con nadie al hacerlo. Tienen dos minutos para hacerl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2: Determine la prioridad de cada neces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Continúe trabajando sola, y observe su lista. Si tuviera que elegir solo una de las necesidades que ha listado como la más importante, ¿cuál elegirías? Coloque un tilde al lado de la necesidad que crea más importante. Tomen dos minutos para hacer es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3. Haga una lista de las necesidades del gru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júntense en grupos de a tres. (Si la comisión solo está compuesta únicamente por cinco miembros pídales que formen un círculo como un solo grupo. Si hay seis o más miembros, pídales que formen grupos de a tre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Por favor asignen a una de las componentes del grupo como secretaria de su grupo. (Presentador: Dele a la secretaria un pedazo de papel en blanc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xplique: Han identificado individualmente cuál percibe cada una que es la necesidad más importante. Secretarias, sobre la hoja de papel en blanco, por favor hagan un listado de la necesidad más importante de cada person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Ahora, como grupo, por favor observen la lista de necesidades y comenten la importancia de cada necesidad. Tienen cinco minutos para este diálo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a parte del ejercicio es esencial, porque favorece la interacción sana entre los miembros de la comisión. La interacción es un elemento clave al planificar el espíritu del equip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Ejercicio 4. Determine la prioridad de las necesidades grupal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xplique: Gracias por contribuir. Ahora tomen una decisión como grupo sobre cuál es la necesidad más importante. Voten en forma individual por la que consideran es la necesidad más importante. Secretarias, por favor tomen registro de los votos. La necesidad que reciba más votos se convertirá en la necesidad más importante de tu grupo. Tienen cinco minutos para hacer esta parte del ejercici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63600" y="679320"/>
            <a:ext cx="4332240" cy="3249720"/>
          </a:xfrm>
          <a:prstGeom prst="rect">
            <a:avLst/>
          </a:prstGeom>
          <a:ln w="0">
            <a:noFill/>
          </a:ln>
        </p:spPr>
      </p:sp>
      <p:sp>
        <p:nvSpPr>
          <p:cNvPr id="15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PRINCIPIOS DE PLANIFICACIÓN DE PROGRAMAS </a:t>
            </a:r>
            <a:r>
              <a:rPr b="1" lang="es-ES" sz="800" spc="-1" strike="noStrike">
                <a:solidFill>
                  <a:srgbClr val="000000"/>
                </a:solidFill>
                <a:latin typeface="Century Gothic"/>
                <a:ea typeface="Times New Roman"/>
              </a:rPr>
              <a:t>(RP-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hora echemos un vistazo a la planificación de program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a sea que la duración del programa sea de dos horas o de un fin de semana, existen ciertos principios que ayudarán a asegurar la calidad y efectividad del mismo. Comentemos cuales son estos principi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Cristo céntrico—</a:t>
            </a:r>
            <a:r>
              <a:rPr b="0" lang="es-ES" sz="800" spc="-1" strike="noStrike">
                <a:solidFill>
                  <a:srgbClr val="000000"/>
                </a:solidFill>
                <a:latin typeface="Century Gothic"/>
                <a:ea typeface="Times New Roman"/>
              </a:rPr>
              <a:t>A lo largo de la planificación del programa, es importante que cada aspecto esté centrado en Cristo. Pregunte siempre, “¿Cómo refleja esto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 Organización—</a:t>
            </a:r>
            <a:r>
              <a:rPr b="0" lang="es-ES" sz="800" spc="-1" strike="noStrike">
                <a:solidFill>
                  <a:srgbClr val="000000"/>
                </a:solidFill>
                <a:latin typeface="Century Gothic"/>
                <a:ea typeface="Times New Roman"/>
              </a:rPr>
              <a:t>Ésta es una gran contribución para el éxito de un programa. Para asegurar la organización, es importante hacer un horario minuto a minuto del event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 Relevancia—</a:t>
            </a:r>
            <a:r>
              <a:rPr b="0" lang="es-ES" sz="800" spc="-1" strike="noStrike">
                <a:solidFill>
                  <a:srgbClr val="000000"/>
                </a:solidFill>
                <a:latin typeface="Century Gothic"/>
                <a:ea typeface="Times New Roman"/>
              </a:rPr>
              <a:t>Para mayor efectividad, cada aspecto del programa debe ser relevante. Pregunte: “¿Cómo será de ayuda o interés esta información para los individuos de la audiencia? ¿Cómo se beneficiarán del é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jemplo: Si el programa es presentado a una audiencia general, una temática que trate sobre los temas de salud de la mujer sería inapropiada. ¿Qué beneficio obtendrían los niños que están en la audiencia de semejante t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s que podrían ser relevantes para todos podrían ser de amor, fe, pureza, paz, perdón,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la audiencia está compuesto únicamente por mujeres, pero hay mujeres menores asistiendo, una temática sobre la menopausia o el divorcio podría no ser relevante para todos. La sensibilidad hacia las necesidades de la audiencia es muy importan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encillez—</a:t>
            </a:r>
            <a:r>
              <a:rPr b="0" lang="es-ES" sz="800" spc="-1" strike="noStrike">
                <a:solidFill>
                  <a:srgbClr val="000000"/>
                </a:solidFill>
                <a:latin typeface="Century Gothic"/>
                <a:ea typeface="Times New Roman"/>
              </a:rPr>
              <a:t>Este es el mejor camino a seguir siempre. Recuerde, habrá personas de todos los contextos educacionales y socioeconómicos asistiendo. Cuanto más simple y al punto sea el programa, más fácil será de llevar a cabo y entender. Mantenga los anuncios e instrucciones lo más simples posible. Las palabras utilizadas en anuncios verbales o escritos deberían ser lo suficientemente simples para que todos puedan comprender. Siempre es mejor mantenerse alejada del uso de palabras y frases complica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 Interesante/vibrante; </a:t>
            </a:r>
            <a:r>
              <a:rPr b="0" lang="es-ES" sz="800" spc="-1" strike="noStrike">
                <a:solidFill>
                  <a:srgbClr val="000000"/>
                </a:solidFill>
                <a:latin typeface="Century Gothic"/>
                <a:ea typeface="Times New Roman"/>
              </a:rPr>
              <a:t>al planificar el programa pregúntese, ¿Qué presentaciones pueden incluirse que añadirán interés y vital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or ejemplo:  ¿Habrá participación e interacción con la audienc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Tendrá variedad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Hay suficientes o alguna ilustración visual?</a:t>
            </a: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6. Lema;</a:t>
            </a:r>
            <a:r>
              <a:rPr b="0" lang="es-ES" sz="800" spc="-1" strike="noStrike">
                <a:solidFill>
                  <a:srgbClr val="000000"/>
                </a:solidFill>
                <a:latin typeface="Century Gothic"/>
                <a:ea typeface="Times New Roman"/>
              </a:rPr>
              <a:t> cuando se está planificando el programa puede ser de ayuda colocar el lema escrito en un lugar visible para los miembros de la comisión.  Esto los ayudara a mantener el lema como centro mientras se planifica el programa. El servicio de canto, la lectura bíblica, la música especial, la decoración etc. Debiera relacionarse con el lema y reflejar el le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7. Música; </a:t>
            </a:r>
            <a:r>
              <a:rPr b="0" lang="es-ES" sz="800" spc="-1" strike="noStrike">
                <a:solidFill>
                  <a:srgbClr val="000000"/>
                </a:solidFill>
                <a:latin typeface="Century Gothic"/>
                <a:ea typeface="Times New Roman"/>
              </a:rPr>
              <a:t>la música es muy una parte muy importante del programa, porque establece la atmósfera para la adoración. Nos ayuda a enfocar nuestra alabanza en Dios, abriendo nuestros corazones para escuchar cuando nos habla.  Asegúrese de que la persona elegida para dirigir la música conoce el lema del programa y sabe cómo guiar un servicio de canto.  Si la música es demasiado fuerte o demasiado suave pierde su efectivid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8. Atención a los detalles; </a:t>
            </a:r>
            <a:r>
              <a:rPr b="0" lang="es-ES" sz="800" spc="-1" strike="noStrike">
                <a:solidFill>
                  <a:srgbClr val="000000"/>
                </a:solidFill>
                <a:latin typeface="Century Gothic"/>
                <a:ea typeface="Times New Roman"/>
              </a:rPr>
              <a:t>los detalles que se hayan pasado por alto pueden distraer cuando se presente el programa . Es importante prestar atención a los pequeños detalles de manera que todo funcione con suavidad. Ejemplo: ¿Dónde se guardará la ofrenda una vez recogida? O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ay alguien encargado de controlar que haya suficientes sillas en la plataforma?</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Qué evitar—(RP-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ea typeface="Times New Roman"/>
              </a:rPr>
              <a:t>J</a:t>
            </a:r>
            <a:r>
              <a:rPr b="1" lang="es-ES" sz="900" spc="-1" strike="noStrike">
                <a:solidFill>
                  <a:srgbClr val="000000"/>
                </a:solidFill>
                <a:latin typeface="Century Gothic"/>
                <a:ea typeface="Times New Roman"/>
              </a:rPr>
              <a:t>erga y frases religiosas complejas</a:t>
            </a:r>
            <a:r>
              <a:rPr b="0" lang="es-ES" sz="900" spc="-1" strike="noStrike">
                <a:solidFill>
                  <a:srgbClr val="000000"/>
                </a:solidFill>
                <a:latin typeface="Century Gothic"/>
                <a:ea typeface="Times New Roman"/>
              </a:rPr>
              <a:t>;  Como este es un ministerio, es muy posible que gente de diferentes credos o religiones o hasta sin religión o afiliación se encuentre sentada en la audiencia. Para hacer que el programa sea apto para toda audiencia, es importante evitar el uso de jerga o frases religiosas complejas que se utilizan comúnmente en nuestras iglesia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Ejemplos:  Necesitamos ser quebrantados sobre la roc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Sientan su llamado y elección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G, la  División y la Unión y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asociación recomienda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Century Gothic"/>
              </a:rPr>
              <a:t>A</a:t>
            </a:r>
            <a:r>
              <a:rPr b="1" lang="es-ES" sz="900" spc="-1" strike="noStrike">
                <a:solidFill>
                  <a:srgbClr val="000000"/>
                </a:solidFill>
                <a:latin typeface="Century Gothic"/>
              </a:rPr>
              <a:t>spectos negativos</a:t>
            </a:r>
            <a:r>
              <a:rPr b="0" lang="es-ES" sz="900" spc="-1" strike="noStrike">
                <a:solidFill>
                  <a:srgbClr val="000000"/>
                </a:solidFill>
                <a:latin typeface="Century Gothic"/>
              </a:rPr>
              <a:t>;  al planificar cada punto del programa, averigüe si incluye llamadas de atención, quejas, o competencia. Cuando se produce cualquiera de estas acciones, surge un sentimiento negativo en la congregació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Falta de vida</a:t>
            </a:r>
            <a:r>
              <a:rPr b="0" lang="es-ES" sz="900" spc="-1" strike="noStrike">
                <a:solidFill>
                  <a:srgbClr val="000000"/>
                </a:solidFill>
                <a:latin typeface="Century Gothic"/>
                <a:ea typeface="Times New Roman"/>
              </a:rPr>
              <a:t>; si se lee un poema, texto bíblico, o relato; asegúrese de que la persona que es responsable de la lectura, practique su parte. Es importante que las palabras se pronuncien con claridad y que el lector haga que se vivan las palabras. La monotonía hace que todo el mundo se duer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Cómo llenar el programa</a:t>
            </a:r>
            <a:r>
              <a:rPr b="0" lang="es-ES" sz="900" spc="-1" strike="noStrike">
                <a:solidFill>
                  <a:srgbClr val="000000"/>
                </a:solidFill>
                <a:latin typeface="Century Gothic"/>
              </a:rPr>
              <a:t>; efectivo y bueno, no son sinónimos al planificar un programa. Hay un límite a la capacidad de concentración y absorción de los individuos en cualquier período de tiempo. Es siempre mejor; para los participantes, salir deseando haber recibido más, que salir cansados y aburridos al final d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umerosos anuncios</a:t>
            </a:r>
            <a:r>
              <a:rPr b="0" lang="es-ES" sz="900" spc="-1" strike="noStrike">
                <a:solidFill>
                  <a:srgbClr val="000000"/>
                </a:solidFill>
                <a:latin typeface="Century Gothic"/>
              </a:rPr>
              <a:t>; un programa que está cargado  de anuncios y con una variedad de gente que los presenta, se vuelve monótono y agotador.  Es importante hacer anuncios cortos y al punto y minimizar el número de personas que los hacen. Debieran figurar en el programa impreso con anticipación si es posibl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rPr>
              <a:t>No pierda tiempo</a:t>
            </a:r>
            <a:r>
              <a:rPr b="0" lang="es-ES" sz="900" spc="-1" strike="noStrike">
                <a:solidFill>
                  <a:srgbClr val="000000"/>
                </a:solidFill>
                <a:latin typeface="Century Gothic"/>
              </a:rPr>
              <a:t>; el lema debiera ser “comenzar y terminar a tiempo.” Ser puntuales nos ayuda a transmitir un mensaje  de confianza y profesionalismo. Cuando la gente se de cuenta que los programas del MM, cumplen con el horario, confiarán en el liderazgo y en el programa.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Introducciones largas</a:t>
            </a:r>
            <a:r>
              <a:rPr b="0" lang="es-ES" sz="900" spc="-1" strike="noStrike">
                <a:solidFill>
                  <a:srgbClr val="000000"/>
                </a:solidFill>
                <a:latin typeface="Century Gothic"/>
                <a:ea typeface="Times New Roman"/>
              </a:rPr>
              <a:t>; muy a menudo cuando se introduce al orador, la presentación parece cubrir todo su currículo por su longitud y detalles.  Cuando se hacen semejantes presentaciones, el centro de atención se separa de Cristo y se lo entrega al orador. La presentación ideal es corta y concisa. Se puede colocar información más detallada del orador en el programa o tríptico. La presentación debiera informar tan solo las habilidades del orador por las cuales ha sido elegido para hablar sobre el tema seleccionad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INCIPIOS PARA HACER PROPAGAN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discutido el tema, las instalaciones, y la planificación del programa, hablemos acerca de la propaganda. ¿Cómo podemos asegurarnos de que la gente se entere acerca d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3)</a:t>
            </a:r>
            <a:r>
              <a:rPr b="0" lang="es-ES" sz="1200" spc="-1" strike="noStrike">
                <a:solidFill>
                  <a:srgbClr val="000000"/>
                </a:solidFill>
                <a:latin typeface="Century Gothic"/>
                <a:ea typeface="Times New Roman"/>
              </a:rPr>
              <a:t> ¡Propaganda! ¡Propaganda! ¡Propaganda! Es la cl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tonces, cuáles son las avenidas que pueden utilizarse para hacer propagand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jemplos:</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Miembros de iglesia y amigos, boletín informativo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iarios locales y estaciones de rad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Boletines informativos de la asociación-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tios web de la iglesia, asociación, un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glesia/colegio/universida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ibrerías cristia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66960" y="679320"/>
            <a:ext cx="3124080" cy="2343240"/>
          </a:xfrm>
          <a:prstGeom prst="rect">
            <a:avLst/>
          </a:prstGeom>
          <a:ln w="0">
            <a:noFill/>
          </a:ln>
        </p:spPr>
      </p:sp>
      <p:sp>
        <p:nvSpPr>
          <p:cNvPr id="15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1.</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Repetición (RP-14); </a:t>
            </a:r>
            <a:r>
              <a:rPr b="0" lang="es-ES" sz="800" spc="-1" strike="noStrike">
                <a:solidFill>
                  <a:srgbClr val="000000"/>
                </a:solidFill>
                <a:latin typeface="Century Gothic"/>
                <a:ea typeface="Times New Roman"/>
              </a:rPr>
              <a:t>Cuanto más vemos y oímos acerca de algo, más nos impresiona. Por lo tanto es importante presentar la información más de una vez y de diferentes maneras. Para hacerlo, haga propaganda para el programa durante varias semanas consecutivas antes del evento, utilizando cada posibilidad a su alcanc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efectivo colocar carteles de propaganda en lugares estratégicos en la iglesia y en carteleras de salones donde será visto con facilida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2.</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 </a:t>
            </a:r>
            <a:r>
              <a:rPr b="0" lang="es-ES" sz="800" spc="-1" strike="noStrike">
                <a:solidFill>
                  <a:srgbClr val="000000"/>
                </a:solidFill>
                <a:latin typeface="Century Gothic"/>
                <a:ea typeface="Times New Roman"/>
              </a:rPr>
              <a:t>un folleto o cartel que contiene la información necesaria constituyen un éxit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ontenido del follet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ema y puntos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Fecha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Hora del comienzo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Jurisdic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Nombre del expositor con una corta biografí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Una corta descripción d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es aplicable, el costo del programa y forma de pago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ómo registrarse para el program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Indicaciones para la ubicación geográfica del evento (mapa)</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quién llamar por más información o pregunt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3.</a:t>
            </a:r>
            <a:r>
              <a:rPr b="0" lang="es-ES" sz="800" spc="-1" strike="noStrike">
                <a:solidFill>
                  <a:srgbClr val="000000"/>
                </a:solidFill>
                <a:latin typeface="Times New Roman"/>
                <a:ea typeface="Times New Roman"/>
              </a:rPr>
              <a:t>      </a:t>
            </a:r>
            <a:r>
              <a:rPr b="1" lang="es-ES" sz="800" spc="-1" strike="noStrike">
                <a:solidFill>
                  <a:srgbClr val="000000"/>
                </a:solidFill>
                <a:latin typeface="Century Gothic"/>
                <a:ea typeface="Times New Roman"/>
              </a:rPr>
              <a:t>Folletos para enviar a iglesias; </a:t>
            </a:r>
            <a:r>
              <a:rPr b="0" lang="es-ES" sz="800" spc="-1" strike="noStrike">
                <a:solidFill>
                  <a:srgbClr val="000000"/>
                </a:solidFill>
                <a:latin typeface="Century Gothic"/>
                <a:ea typeface="Times New Roman"/>
              </a:rPr>
              <a:t>si el programa es para un grupo de iglesias o para toda la asociación es importante conseguir folletos para cada iglesia. Cuando se envían folletos, es aconsejable incluir una carta informativa para la directora de los MM y para el pastor. Esta carta debe contener información en relación con el evento que no se encuentre en el folleto. Asegúrese de contar con la ayuda de estos individuos para hacer propaganda en sus iglesia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alcanza el presupuesto, se debería enviar algunos folletos a cada iglesia de acuerdo al número de miembros. Por ejemplo: una iglesia de 400 recibirá un mínimo de 25 folletos. Una iglesia de 100 recibirá 10 folletos. En la carta que se envía a la líder de los MM y al pastor, anímelos a fotocopiar tantos folletos de propaganda como sea necesario para distribui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4.   </a:t>
            </a:r>
            <a:r>
              <a:rPr b="1" lang="es-ES" sz="800" spc="-1" strike="noStrike">
                <a:solidFill>
                  <a:srgbClr val="000000"/>
                </a:solidFill>
                <a:latin typeface="Century Gothic"/>
                <a:ea typeface="Times New Roman"/>
              </a:rPr>
              <a:t>Propaganda en diarios/radio ; </a:t>
            </a:r>
            <a:r>
              <a:rPr b="0" lang="es-ES" sz="800" spc="-1" strike="noStrike">
                <a:solidFill>
                  <a:srgbClr val="000000"/>
                </a:solidFill>
                <a:latin typeface="Century Gothic"/>
                <a:ea typeface="Times New Roman"/>
              </a:rPr>
              <a:t>en algunas ciudades o pueblos, los diarios locales y la estación de radio ofrecen hacer propaganda gratis o a muy bajo costo para reuniones religiosas. Si este es el caso, esta es otra avenida de propaganda. Asegúrese de entregar a estas entidades una descripción escrita del programa con el tema, fecha y hora, la dirección donde se llevará a cabo la reunión y un número de teléfono donde podrán </a:t>
            </a:r>
            <a:r>
              <a:rPr b="0" lang="es-ES_tradnl" sz="800" spc="-1" strike="noStrike">
                <a:solidFill>
                  <a:srgbClr val="000000"/>
                </a:solidFill>
                <a:latin typeface="Century Gothic"/>
                <a:ea typeface="Times New Roman"/>
              </a:rPr>
              <a:t>l</a:t>
            </a:r>
            <a:r>
              <a:rPr b="0" lang="es-ES" sz="800" spc="-1" strike="noStrike">
                <a:solidFill>
                  <a:srgbClr val="000000"/>
                </a:solidFill>
                <a:latin typeface="Century Gothic"/>
                <a:ea typeface="Times New Roman"/>
              </a:rPr>
              <a:t>lamar par recibir cualquier información adicional.</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VALUACIÒ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uando el programa ha concluido, la comisión organizadora deseará saber si los participantes se beneficiaron con el programa, qué se podría haber mejorado, y que fue lo más efectiv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importante conocer la perspectiva de la comisión organizadora tanto como de los asistentes. Es importante solicitar que llenen las evaluaciones y que las devuelvan en el momento. Siempre trae una recompensa poder ver las respuestas. (¡Recomendación! Provea una canasta o caja decorada para colocar cerca dela salida donde los participantes puedan colocar los formularios de evaluación mientras van saliendo o pida a los ujieres que los recoja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También es de gran importancia recibir la retro alimentación de la comisión organizadora. Tómese tiempo para citarlos a una breve reunión después del evento con el propósito de comentar los resultados del programa y para agradecerles, por el trabajo de los miembros de la comisión. Si es posible, una forma muy buena de agradecer sería proveyendo una comida o refrescos con bocaditos. Después de comer, comience agradeciendo a cada uno de los miembros demostrando aprecio por detalles específicos y luego conceda la oportunidad para que se hagan comentario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to puede parecer un trabajo extra, pero ayuda en la planificación de los ministerios en general.  Es importante tener en cuenta las sugerencias y observaciones dadas por cada miembro de la comisión. Póngala por escrito, puede resultar muy valiosa para futuros evento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APPRECI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ara construir un espíritu de grupo, siempre muestre aprecio hacia los miembros de la comisión y otros individuos que hayan colaborado. Presupueste alguna suma para contar con fondos como para obtener pequeñas, aunque significativas muestras de aprecio. Puede ser una tarjeta, un marcador, o cualquier otro detalle que pueda conseguir. Demostrar gratitud y aprecio públicamente, aunque sea verbalmente, es poderoso para levantar la moral, construir espíritu de equipo y asegurar la auto estima. Deja un sentimiento agradable el hecho de recibir muestras de aprecio. Demostremos aprecio y gratitud el uno por el otr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SUBCOMISIONES y responsabilidades</a:t>
            </a:r>
            <a:r>
              <a:rPr b="1" lang="es-ES" sz="800" spc="-1" strike="noStrike">
                <a:solidFill>
                  <a:srgbClr val="000000"/>
                </a:solidFill>
                <a:latin typeface="Century Gothic"/>
                <a:ea typeface="Times New Roman"/>
              </a:rPr>
              <a:t> (rp-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s subcomisiones son muy importantes para la organización y buen funcionamiento del programa. Comentemos sobre las diferentes subcomisiones y sus 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1. </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	</a:t>
            </a: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lanificar el programa en detalle incluyendo el tiempo para cada activ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coordinadores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el programa comience y termine a tiemp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ctar a todas las personas involucradas en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Tener copias del programa para cada participa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rolar que todos los materiales estén impresos para el programa y listo para ser entregado por los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2.</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hospita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encargados de atender al/los exposito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uplir gente para dar la bienvenida en cada puer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Saludar a cada expositor y conducirlos a la pieza donde serán presentados, proveer agua para beber, y cualquier otra cosa que necesit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3.</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audiovisu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los equipos de audio necesarios para 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ntes del programa, controlar que el sistema de amplificación esté en su lugar y que funcione adecuad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Proveer de proyector y pantalla colocados estratégicamente para posibilitar buena visibili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tar con suficientes micrófonos en cada lugar necesario para cada parte del prog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4.        Subcomisión de ujier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signar ujie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Conseguir con qué juntar las ofrend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Averiguar si se repartirán materiales y estar listos para distribuirl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5.</a:t>
            </a:r>
            <a:r>
              <a:rPr b="1" lang="es-ES" sz="800" spc="-1" strike="noStrike">
                <a:solidFill>
                  <a:srgbClr val="000000"/>
                </a:solidFill>
                <a:latin typeface="Century Gothic"/>
                <a:ea typeface="Times New Roman"/>
              </a:rPr>
              <a:t>	</a:t>
            </a:r>
            <a:r>
              <a:rPr b="1" lang="es-ES" sz="800" spc="-1" strike="noStrike">
                <a:solidFill>
                  <a:srgbClr val="000000"/>
                </a:solidFill>
                <a:latin typeface="Century Gothic"/>
                <a:ea typeface="Times New Roman"/>
              </a:rPr>
              <a:t>Subcomisión de mús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Responsabilidad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Organizar y dirigir el servicio de ca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Symbol"/>
                <a:ea typeface="Symbol"/>
              </a:rPr>
              <a:t></a:t>
            </a:r>
            <a:r>
              <a:rPr b="0" lang="es-ES" sz="800" spc="-1" strike="noStrike">
                <a:solidFill>
                  <a:srgbClr val="000000"/>
                </a:solidFill>
                <a:latin typeface="Times New Roman"/>
                <a:ea typeface="Times New Roman"/>
              </a:rPr>
              <a:t>       </a:t>
            </a:r>
            <a:r>
              <a:rPr b="0" lang="es-ES" sz="800" spc="-1" strike="noStrike">
                <a:solidFill>
                  <a:srgbClr val="000000"/>
                </a:solidFill>
                <a:latin typeface="Century Gothic"/>
                <a:ea typeface="Times New Roman"/>
              </a:rPr>
              <a:t>Buscar partes espec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Buscar pianistas, organistas, u otros músicos para acompañar el cant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TRODUC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Wow! Tienes la responsabilidad maravillosa y emocionante de dirigir en la planificación y presentación de un programa para el Ministerio de la Mujer. Esta es una tarea importante que Dios te ha asign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probable que el programa que estás planificando pueda ser la primera presentación que tendrá alguien que asiste, acerca de Dios y también de la Iglesia Adventista del Séptimo Día. Por lo tanto, es importante planificar cuidadosamente y trabajar con oración para que sea Cristo céntrico, atractivo y rico en conten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programa suple las necesidades y expectativas de los que asisten, desarrollarán confianza en usted y en el Ministerio de la Mujer. Este es el mejor método de publicidad porque cuando un programa futuro del Ministerio de la Mujer sea publicitado, la gente se entusiasmará al asistir y traerá a otras person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a:t>
            </a:r>
            <a:r>
              <a:rPr b="0" lang="es-ES" sz="1200" spc="-1" strike="noStrike">
                <a:solidFill>
                  <a:srgbClr val="000000"/>
                </a:solidFill>
                <a:latin typeface="Century Gothic"/>
                <a:ea typeface="Times New Roman"/>
              </a:rPr>
              <a:t> ¡El enfoque primario de un programa es el ministerio! Debemos recordar siempre que estamos ministrando las necesidades de muje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2)</a:t>
            </a:r>
            <a:r>
              <a:rPr b="0" lang="es-ES" sz="1200" spc="-1" strike="noStrike">
                <a:solidFill>
                  <a:srgbClr val="000000"/>
                </a:solidFill>
                <a:latin typeface="Century Gothic"/>
                <a:ea typeface="Times New Roman"/>
              </a:rPr>
              <a:t> La planificación de un programa puede compararse con un artista que pinta un cuadro. El artista utilizará incontables horas trabajando en un cuadro en particular hasta que transmita lo que él o ella desea que los observadores vean. De la misma manera, al planificar un programa preguntaremos, “¿Qué deseamos transmitir en este programa? Y “¿Qué queremos que recuer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uedes estar planificando un programa corto de unas pocas horas o uno de un fin de semana entero. No importa la duración, hay algunos principios generales que nos ayudarán a tener un programa efectivo y enriquec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planificación de programas es una gran tarea, pero puede ser divertida, emocionante y brindar recompensas. </a:t>
            </a:r>
            <a:r>
              <a:rPr b="1" lang="es-ES" sz="1200" spc="-1" strike="noStrike">
                <a:solidFill>
                  <a:srgbClr val="000000"/>
                </a:solidFill>
                <a:latin typeface="Century Gothic"/>
                <a:ea typeface="Times New Roman"/>
              </a:rPr>
              <a:t>(RP-3)</a:t>
            </a:r>
            <a:r>
              <a:rPr b="0" lang="es-ES" sz="1200" spc="-1" strike="noStrike">
                <a:solidFill>
                  <a:srgbClr val="000000"/>
                </a:solidFill>
                <a:latin typeface="Century Gothic"/>
                <a:ea typeface="Times New Roman"/>
              </a:rPr>
              <a:t> Somos únicamente instrumentos de Dios. Este es Su programa. Él nos está utilizando para planificarlo. Por lo tanto, la clave más importante que necesitaremos a cada paso del camino es mantenernos conectados a él 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4)</a:t>
            </a:r>
            <a:r>
              <a:rPr b="0" lang="es-ES" sz="1200" spc="-1" strike="noStrike">
                <a:solidFill>
                  <a:srgbClr val="000000"/>
                </a:solidFill>
                <a:latin typeface="Century Gothic"/>
                <a:ea typeface="Times New Roman"/>
              </a:rPr>
              <a:t> oración, oración, ¡y más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Oremos juntos ahora: (A continuación tenemos un ejemplo de una cort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adre Celestial, al dialogar sobre la planificación de programas, invito la presencia del Espíritu Santo para llenar esta habitación. Que cada una de nosotras pueda comprender la maravillosa responsabilidad que tenemos como hijas escogidas por ti de servir en la dirección y planificación de tus programas. Nos damos cuenta que a través de estos programas los demás tendrán la oportunidad de llegar a conocerte como su amigo personal y Salvador. Gracias por esta gran oportunidad de servicio. En el nombre de Jesús, Amé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GUNTAS MÁS FRECUENTES</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uando se te pide que lideres la planificación y presentación de un programa, algunas de las siguientes preguntas pueden venir a tu m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hora que hemos identificado algunas de las preocupaciones que puedan surgir, miremos los pasos que necesitamos seguir para poder suplir estas preocupaciones al planificar el progra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SOS PARA LA PLANIFICACIÓN DE PROGRA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Paso 1. Tu comisión de planificación (RP-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Porqué es esto necesario?</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poyo: Una comisión le da al líder apoyo moral, espiritual y físico para organizar y llevar a cabo el progra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quilibrio: Los miembros de una comisión, traen el equilibrio mientras incorporan sus ideas y perspectivas variadas. Un programa equilibrado podrá suplir mejor las necesidades de una variedad de person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A.</a:t>
            </a:r>
            <a:r>
              <a:rPr b="1" lang="es-ES" sz="1200" spc="-1" strike="noStrike">
                <a:solidFill>
                  <a:srgbClr val="000000"/>
                </a:solidFill>
                <a:latin typeface="Century Gothic"/>
                <a:ea typeface="Times New Roman"/>
              </a:rPr>
              <a:t>	</a:t>
            </a:r>
            <a:r>
              <a:rPr b="1" lang="es-ES" sz="1200" spc="-1" strike="noStrike">
                <a:solidFill>
                  <a:srgbClr val="000000"/>
                </a:solidFill>
                <a:latin typeface="Century Gothic"/>
                <a:ea typeface="Times New Roman"/>
              </a:rPr>
              <a:t>Cómo elegir una comisión equilibr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tacto personal: </a:t>
            </a:r>
            <a:r>
              <a:rPr b="1" lang="es-ES" sz="1200" spc="-1" strike="noStrike">
                <a:solidFill>
                  <a:srgbClr val="000000"/>
                </a:solidFill>
                <a:latin typeface="Century Gothic"/>
                <a:ea typeface="Times New Roman"/>
              </a:rPr>
              <a:t>(RP-7)</a:t>
            </a:r>
            <a:r>
              <a:rPr b="0" lang="es-ES" sz="1200" spc="-1" strike="noStrike">
                <a:solidFill>
                  <a:srgbClr val="000000"/>
                </a:solidFill>
                <a:latin typeface="Century Gothic"/>
                <a:ea typeface="Times New Roman"/>
              </a:rPr>
              <a:t> Si es posible, hable personalmente con las personas que crea que poda trabajar cómodamente. Es mejor si evita pedir voluntarias, siendo que no todas los que están dispuestos están calificadas o comprometidas con el ministerio. Intente encontrar individuos con el mismo propósito y objetivo de ministerio que us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Consulte con el pastor y otros líderes en quienes confíe. Pregúnteles si conocen mujeres que tienen un interés de ministrar a otras mujeres. Si puede, observe a la persona recomendada. Si siente que ella podría ser un beneficio para su comisión, haga una cita para hablar con ella y luego invítala a ministrar con uste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4972C-2688-4CB1-AE07-4D971609D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71F8-BA8E-4F37-9338-04D439DA0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CF5C8-7BC6-4A11-AED5-ED8DE59EC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A6CD5-EF17-4A55-B7FF-95DF74671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1F707-275F-4B2B-8F1B-855F38353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B23AD-7B97-4F52-B065-A78DBA53B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1D777-EF01-4FDB-988C-67B901DC4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7A16B-CA8D-4FA8-A2A9-1CD4739DF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82473-BE80-440D-8475-1E28CF85F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D1897-1DF1-4B8C-BD24-08046ADDC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2D4CF-9D06-482C-AEE8-62DA8326F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C0982-7DF0-4609-AB5C-6FCDE4970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B44C9-D41C-4D83-AE8B-B3CF3C9E5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D113E-2217-4A36-B08F-0D54BC201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F8A11-1B06-4249-A571-B3414E5E9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57D74-9D6F-47DB-AFA7-075F758A8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70A53-27E4-4E51-83E6-795EA53CD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D606E-4A3B-4475-A533-711EBDCF3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5094F-5A94-43B9-B8CC-0FFAC6B75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E5EC9-09E5-4000-99A5-232290F6E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46D52-AE75-4CFB-93E9-000CD5D06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32DFE-1C92-4B3F-A85E-8C6A34F1A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C3189-8BD9-4B12-8796-679D7A03A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2F566-1B22-4BF2-9015-F7D868DE1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0964B-B60F-4296-9057-080F9945716C}"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B41C-6554-4F83-A1A0-60DFC100BE6C}"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4.wmf"/><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0360" y="3657240"/>
            <a:ext cx="4800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41436c"/>
                </a:solidFill>
                <a:latin typeface="Georgia"/>
              </a:rPr>
              <a:t>Por </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666699"/>
                </a:solidFill>
                <a:latin typeface="Georgia"/>
              </a:rPr>
              <a:t>Jean Parchment</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Certificación de liderazgo nivel 2</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Asociación General</a:t>
            </a:r>
            <a:endParaRPr b="0" lang="en-US" sz="1800" spc="-1" strike="noStrike">
              <a:solidFill>
                <a:srgbClr val="f6e8ee"/>
              </a:solidFill>
              <a:latin typeface="Georgi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cc"/>
                </a:solidFill>
                <a:latin typeface="Georgia"/>
              </a:rPr>
              <a:t>Ministerios de la mujer</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914040"/>
            <a:ext cx="723924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Tamaño de la comisión</a:t>
            </a:r>
            <a:endParaRPr b="1" lang="en-US" sz="4400" spc="-1" strike="noStrike">
              <a:solidFill>
                <a:srgbClr val="7b3722"/>
              </a:solidFill>
              <a:latin typeface="Arial"/>
            </a:endParaRPr>
          </a:p>
        </p:txBody>
      </p:sp>
      <p:sp>
        <p:nvSpPr>
          <p:cNvPr id="105" name="PlaceHolder 2"/>
          <p:cNvSpPr>
            <a:spLocks noGrp="1"/>
          </p:cNvSpPr>
          <p:nvPr>
            <p:ph/>
          </p:nvPr>
        </p:nvSpPr>
        <p:spPr>
          <a:xfrm>
            <a:off x="1218960" y="5105520"/>
            <a:ext cx="7086600" cy="121896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33cc"/>
                </a:solidFill>
                <a:latin typeface="Arial"/>
              </a:rPr>
              <a:t>Grande no necesariamente significa efectiva</a:t>
            </a:r>
            <a:endParaRPr b="0" lang="en-US" sz="3600" spc="-1" strike="noStrike">
              <a:solidFill>
                <a:srgbClr val="f6e8ee"/>
              </a:solidFill>
              <a:latin typeface="Georgia"/>
            </a:endParaRPr>
          </a:p>
        </p:txBody>
      </p:sp>
      <p:pic>
        <p:nvPicPr>
          <p:cNvPr id="106" name="SY01112_" descr=""/>
          <p:cNvPicPr/>
          <p:nvPr/>
        </p:nvPicPr>
        <p:blipFill>
          <a:blip r:embed="rId2"/>
          <a:stretch/>
        </p:blipFill>
        <p:spPr>
          <a:xfrm>
            <a:off x="762120" y="1981080"/>
            <a:ext cx="1068120" cy="1371600"/>
          </a:xfrm>
          <a:prstGeom prst="rect">
            <a:avLst/>
          </a:prstGeom>
          <a:ln w="0">
            <a:noFill/>
          </a:ln>
        </p:spPr>
      </p:pic>
      <p:pic>
        <p:nvPicPr>
          <p:cNvPr id="107" name="SY01114_" descr=""/>
          <p:cNvPicPr/>
          <p:nvPr/>
        </p:nvPicPr>
        <p:blipFill>
          <a:blip r:embed="rId3"/>
          <a:stretch/>
        </p:blipFill>
        <p:spPr>
          <a:xfrm>
            <a:off x="2057400" y="3200400"/>
            <a:ext cx="1689120" cy="1959120"/>
          </a:xfrm>
          <a:prstGeom prst="rect">
            <a:avLst/>
          </a:prstGeom>
          <a:ln w="0">
            <a:noFill/>
          </a:ln>
        </p:spPr>
      </p:pic>
      <p:pic>
        <p:nvPicPr>
          <p:cNvPr id="108" name="SY01116_" descr=""/>
          <p:cNvPicPr/>
          <p:nvPr/>
        </p:nvPicPr>
        <p:blipFill>
          <a:blip r:embed="rId4"/>
          <a:stretch/>
        </p:blipFill>
        <p:spPr>
          <a:xfrm>
            <a:off x="4038480" y="2133720"/>
            <a:ext cx="1695600" cy="2133360"/>
          </a:xfrm>
          <a:prstGeom prst="rect">
            <a:avLst/>
          </a:prstGeom>
          <a:ln w="0">
            <a:noFill/>
          </a:ln>
        </p:spPr>
      </p:pic>
      <p:pic>
        <p:nvPicPr>
          <p:cNvPr id="109"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gtEl>
                                        <p:attrNameLst>
                                          <p:attrName>style.visibility</p:attrName>
                                        </p:attrNameLst>
                                      </p:cBhvr>
                                      <p:to>
                                        <p:strVal val="visible"/>
                                      </p:to>
                                    </p:set>
                                    <p:anim calcmode="lin" valueType="num">
                                      <p:cBhvr additive="base">
                                        <p:cTn id="13" dur="500" fill="hold"/>
                                        <p:tgtEl>
                                          <p:spTgt spid="107"/>
                                        </p:tgtEl>
                                        <p:attrNameLst>
                                          <p:attrName>ppt_x</p:attrName>
                                        </p:attrNameLst>
                                      </p:cBhvr>
                                      <p:tavLst>
                                        <p:tav tm="0">
                                          <p:val>
                                            <p:strVal val="#ppt_x"/>
                                          </p:val>
                                        </p:tav>
                                        <p:tav tm="100000">
                                          <p:val>
                                            <p:strVal val="#ppt_x"/>
                                          </p:val>
                                        </p:tav>
                                      </p:tavLst>
                                    </p:anim>
                                    <p:anim calcmode="lin" valueType="num">
                                      <p:cBhvr additive="base">
                                        <p:cTn id="1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gtEl>
                                        <p:attrNameLst>
                                          <p:attrName>style.visibility</p:attrName>
                                        </p:attrNameLst>
                                      </p:cBhvr>
                                      <p:to>
                                        <p:strVal val="visible"/>
                                      </p:to>
                                    </p:set>
                                    <p:anim calcmode="lin" valueType="num">
                                      <p:cBhvr additive="base">
                                        <p:cTn id="19" dur="500" fill="hold"/>
                                        <p:tgtEl>
                                          <p:spTgt spid="108"/>
                                        </p:tgtEl>
                                        <p:attrNameLst>
                                          <p:attrName>ppt_x</p:attrName>
                                        </p:attrNameLst>
                                      </p:cBhvr>
                                      <p:tavLst>
                                        <p:tav tm="0">
                                          <p:val>
                                            <p:strVal val="#ppt_x"/>
                                          </p:val>
                                        </p:tav>
                                        <p:tav tm="100000">
                                          <p:val>
                                            <p:strVal val="#ppt_x"/>
                                          </p:val>
                                        </p:tav>
                                      </p:tavLst>
                                    </p:anim>
                                    <p:anim calcmode="lin" valueType="num">
                                      <p:cBhvr additive="base">
                                        <p:cTn id="2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base">
                                        <p:cTn id="25" dur="500" fill="hold"/>
                                        <p:tgtEl>
                                          <p:spTgt spid="109"/>
                                        </p:tgtEl>
                                        <p:attrNameLst>
                                          <p:attrName>ppt_x</p:attrName>
                                        </p:attrNameLst>
                                      </p:cBhvr>
                                      <p:tavLst>
                                        <p:tav tm="0">
                                          <p:val>
                                            <p:strVal val="#ppt_x"/>
                                          </p:val>
                                        </p:tav>
                                        <p:tav tm="100000">
                                          <p:val>
                                            <p:strVal val="#ppt_x"/>
                                          </p:val>
                                        </p:tav>
                                      </p:tavLst>
                                    </p:anim>
                                    <p:anim calcmode="lin" valueType="num">
                                      <p:cBhvr additive="base">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33720" y="609480"/>
            <a:ext cx="6781680" cy="609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rial"/>
              </a:rPr>
              <a:t>Composición de la comisión</a:t>
            </a:r>
            <a:endParaRPr b="1" lang="en-US" sz="4000" spc="-1" strike="noStrike">
              <a:solidFill>
                <a:srgbClr val="7b3722"/>
              </a:solidFill>
              <a:latin typeface="Arial"/>
            </a:endParaRPr>
          </a:p>
        </p:txBody>
      </p:sp>
      <p:sp>
        <p:nvSpPr>
          <p:cNvPr id="111"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La líder president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jove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soltera</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mujer profesional que </a:t>
            </a:r>
            <a:endParaRPr b="0" lang="en-US" sz="3200" spc="-1" strike="noStrike">
              <a:solidFill>
                <a:srgbClr val="f6e8ee"/>
              </a:solidFill>
              <a:latin typeface="Georgi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	</a:t>
            </a:r>
            <a:r>
              <a:rPr b="0" lang="es-ES" sz="3200" spc="-1" strike="noStrike">
                <a:solidFill>
                  <a:srgbClr val="0033cc"/>
                </a:solidFill>
                <a:latin typeface="Arial"/>
              </a:rPr>
              <a:t>está en ejercicio de su profesión</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ama de casa que es madre</a:t>
            </a:r>
            <a:endParaRPr b="0" lang="en-US" sz="3200" spc="-1" strike="noStrike">
              <a:solidFill>
                <a:srgbClr val="f6e8ee"/>
              </a:solidFill>
              <a:latin typeface="Georgia"/>
            </a:endParaRPr>
          </a:p>
          <a:p>
            <a:pPr marL="339480" indent="-33948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cc"/>
                </a:solidFill>
                <a:latin typeface="Arial"/>
              </a:rPr>
              <a:t>Una persona mayo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380520"/>
            <a:ext cx="71629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3" name="PlaceHolder 2"/>
          <p:cNvSpPr>
            <a:spLocks noGrp="1"/>
          </p:cNvSpPr>
          <p:nvPr>
            <p:ph/>
          </p:nvPr>
        </p:nvSpPr>
        <p:spPr>
          <a:xfrm>
            <a:off x="685440" y="2361960"/>
            <a:ext cx="8077320" cy="388620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Ejercicio de determinación de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1:</a:t>
            </a:r>
            <a:r>
              <a:rPr b="1" lang="es-ES" sz="3000" spc="-1" strike="noStrike">
                <a:solidFill>
                  <a:srgbClr val="0033cc"/>
                </a:solidFill>
                <a:latin typeface="Arial"/>
              </a:rPr>
              <a:t> Identifique tres necesidades</a:t>
            </a:r>
            <a:endParaRPr b="0" lang="en-US" sz="3000" spc="-1" strike="noStrike">
              <a:solidFill>
                <a:srgbClr val="f6e8ee"/>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6e8ee"/>
              </a:solidFill>
              <a:latin typeface="Georgia"/>
            </a:endParaRPr>
          </a:p>
          <a:p>
            <a:pPr>
              <a:lnSpc>
                <a:spcPct val="90000"/>
              </a:lnSpc>
              <a:spcBef>
                <a:spcPts val="75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2c223a"/>
                </a:solidFill>
                <a:latin typeface="Arial"/>
              </a:rPr>
              <a:t>Ejercicio 2:</a:t>
            </a:r>
            <a:r>
              <a:rPr b="1" lang="es-ES" sz="3000" spc="-1" strike="noStrike">
                <a:solidFill>
                  <a:srgbClr val="0033cc"/>
                </a:solidFill>
                <a:latin typeface="Arial"/>
              </a:rPr>
              <a:t> Determine la prioridad de cada necesidad</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Paso 2:</a:t>
            </a:r>
            <a:r>
              <a:rPr b="1" lang="es-ES" sz="4400" spc="-1" strike="noStrike">
                <a:solidFill>
                  <a:srgbClr val="2c223a"/>
                </a:solidFill>
                <a:latin typeface="Arial"/>
              </a:rPr>
              <a:t> </a:t>
            </a:r>
            <a:br>
              <a:rPr sz="4400"/>
            </a:br>
            <a:r>
              <a:rPr b="1" lang="es-ES" sz="4400" spc="-1" strike="noStrike">
                <a:solidFill>
                  <a:srgbClr val="2c223a"/>
                </a:solidFill>
                <a:latin typeface="Arial"/>
              </a:rPr>
              <a:t>Cómo escoger el tema</a:t>
            </a:r>
            <a:endParaRPr b="1" lang="en-US" sz="4400" spc="-1" strike="noStrike">
              <a:solidFill>
                <a:srgbClr val="7b3722"/>
              </a:solidFill>
              <a:latin typeface="Arial"/>
            </a:endParaRPr>
          </a:p>
        </p:txBody>
      </p:sp>
      <p:sp>
        <p:nvSpPr>
          <p:cNvPr id="115" name="PlaceHolder 2"/>
          <p:cNvSpPr>
            <a:spLocks noGrp="1"/>
          </p:cNvSpPr>
          <p:nvPr>
            <p:ph/>
          </p:nvPr>
        </p:nvSpPr>
        <p:spPr>
          <a:xfrm>
            <a:off x="762120" y="2438280"/>
            <a:ext cx="8229600" cy="3733920"/>
          </a:xfrm>
          <a:prstGeom prst="rect">
            <a:avLst/>
          </a:prstGeom>
          <a:noFill/>
          <a:ln w="0">
            <a:noFill/>
          </a:ln>
        </p:spPr>
        <p:txBody>
          <a:bodyPr lIns="90000" rIns="90000" tIns="46800" bIns="46800" anchor="t">
            <a:normAutofit/>
          </a:bodyPr>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3:</a:t>
            </a:r>
            <a:r>
              <a:rPr b="0" lang="es-ES" sz="3600" spc="-1" strike="noStrike">
                <a:solidFill>
                  <a:srgbClr val="0033cc"/>
                </a:solidFill>
                <a:latin typeface="Arial"/>
              </a:rPr>
              <a:t> Haga una lista de las necesidades del grupo</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4:</a:t>
            </a:r>
            <a:r>
              <a:rPr b="0" lang="es-ES" sz="3600" spc="-1" strike="noStrike">
                <a:solidFill>
                  <a:srgbClr val="0033cc"/>
                </a:solidFill>
                <a:latin typeface="Arial"/>
              </a:rPr>
              <a:t> Determine la prioridad de las necesidades grupales</a:t>
            </a:r>
            <a:endParaRPr b="0" lang="en-US" sz="3600" spc="-1" strike="noStrike">
              <a:solidFill>
                <a:srgbClr val="f6e8ee"/>
              </a:solidFill>
              <a:latin typeface="Georgia"/>
            </a:endParaRPr>
          </a:p>
          <a:p>
            <a:pPr marL="343080" indent="-343080">
              <a:lnSpc>
                <a:spcPct val="100000"/>
              </a:lnSpc>
              <a:spcBef>
                <a:spcPts val="901"/>
              </a:spcBef>
              <a:buClr>
                <a:srgbClr val="2c22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rial"/>
              </a:rPr>
              <a:t>Ejercicio 5:</a:t>
            </a:r>
            <a:r>
              <a:rPr b="0" lang="es-ES" sz="3600" spc="-1" strike="noStrike">
                <a:solidFill>
                  <a:srgbClr val="0033cc"/>
                </a:solidFill>
                <a:latin typeface="Arial"/>
              </a:rPr>
              <a:t> Identificando la temática</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685800"/>
            <a:ext cx="70866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rial"/>
              </a:rPr>
              <a:t>Principios de planificación de programas</a:t>
            </a:r>
            <a:endParaRPr b="1" lang="en-US" sz="3600" spc="-1" strike="noStrike">
              <a:solidFill>
                <a:srgbClr val="7b3722"/>
              </a:solidFill>
              <a:latin typeface="Arial"/>
            </a:endParaRPr>
          </a:p>
        </p:txBody>
      </p:sp>
      <p:sp>
        <p:nvSpPr>
          <p:cNvPr id="117" name="PlaceHolder 2"/>
          <p:cNvSpPr>
            <a:spLocks noGrp="1"/>
          </p:cNvSpPr>
          <p:nvPr>
            <p:ph/>
          </p:nvPr>
        </p:nvSpPr>
        <p:spPr>
          <a:xfrm>
            <a:off x="837720" y="1676160"/>
            <a:ext cx="48769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risto céntrico</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ganización</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Relevanci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Sencillez</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teresante/vibrante</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Lem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a:p>
            <a:pPr marL="343080" indent="-343080">
              <a:lnSpc>
                <a:spcPct val="9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tención a los detalles</a:t>
            </a:r>
            <a:endParaRPr b="0" lang="en-US" sz="3200" spc="-1" strike="noStrike">
              <a:solidFill>
                <a:srgbClr val="f6e8ee"/>
              </a:solidFill>
              <a:latin typeface="Georgia"/>
            </a:endParaRPr>
          </a:p>
        </p:txBody>
      </p:sp>
      <p:pic>
        <p:nvPicPr>
          <p:cNvPr id="118"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609120"/>
            <a:ext cx="647676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0" name="PlaceHolder 2"/>
          <p:cNvSpPr>
            <a:spLocks noGrp="1"/>
          </p:cNvSpPr>
          <p:nvPr>
            <p:ph/>
          </p:nvPr>
        </p:nvSpPr>
        <p:spPr>
          <a:xfrm>
            <a:off x="609120" y="1828800"/>
            <a:ext cx="7696440" cy="4516560"/>
          </a:xfrm>
          <a:prstGeom prst="rect">
            <a:avLst/>
          </a:prstGeom>
          <a:noFill/>
          <a:ln w="0">
            <a:noFill/>
          </a:ln>
        </p:spPr>
        <p:txBody>
          <a:bodyPr lIns="90000" rIns="90000" tIns="46800" bIns="46800" anchor="t">
            <a:normAutofit/>
          </a:bodyPr>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Jerga y frases religiosas complejas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spectos negativos</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alta de vida: </a:t>
            </a:r>
            <a:r>
              <a:rPr b="0" lang="es-ES" sz="3200" spc="-1" strike="noStrike">
                <a:solidFill>
                  <a:srgbClr val="0033cc"/>
                </a:solidFill>
                <a:latin typeface="Arial"/>
              </a:rPr>
              <a:t>La monotonía hace que todo el mundo se duerma.</a:t>
            </a:r>
            <a:r>
              <a:rPr b="1" lang="es-ES" sz="3200" spc="-1" strike="noStrike">
                <a:solidFill>
                  <a:srgbClr val="0033cc"/>
                </a:solidFill>
                <a:latin typeface="Arial"/>
              </a:rPr>
              <a:t> </a:t>
            </a:r>
            <a:endParaRPr b="0" lang="en-US" sz="3200" spc="-1" strike="noStrike">
              <a:solidFill>
                <a:srgbClr val="f6e8ee"/>
              </a:solidFill>
              <a:latin typeface="Georgia"/>
            </a:endParaRPr>
          </a:p>
          <a:p>
            <a:pPr marL="685800" indent="-685800">
              <a:lnSpc>
                <a:spcPct val="100000"/>
              </a:lnSpc>
              <a:spcBef>
                <a:spcPts val="7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ómo llenar el programa: </a:t>
            </a:r>
            <a:r>
              <a:rPr b="0" lang="es-ES" sz="3200" spc="-1" strike="noStrike">
                <a:solidFill>
                  <a:srgbClr val="0033cc"/>
                </a:solidFill>
                <a:latin typeface="Arial"/>
              </a:rPr>
              <a:t>efectivo y cargado no son sinónimo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Qué evitar:</a:t>
            </a:r>
            <a:endParaRPr b="1" lang="en-US" sz="4400" spc="-1" strike="noStrike">
              <a:solidFill>
                <a:srgbClr val="7b3722"/>
              </a:solidFill>
              <a:latin typeface="Arial"/>
            </a:endParaRPr>
          </a:p>
        </p:txBody>
      </p:sp>
      <p:sp>
        <p:nvSpPr>
          <p:cNvPr id="122" name="PlaceHolder 2"/>
          <p:cNvSpPr>
            <a:spLocks noGrp="1"/>
          </p:cNvSpPr>
          <p:nvPr>
            <p:ph/>
          </p:nvPr>
        </p:nvSpPr>
        <p:spPr>
          <a:xfrm>
            <a:off x="914400" y="2362320"/>
            <a:ext cx="7772400" cy="3504960"/>
          </a:xfrm>
          <a:prstGeom prst="rect">
            <a:avLst/>
          </a:prstGeom>
          <a:noFill/>
          <a:ln w="0">
            <a:noFill/>
          </a:ln>
        </p:spPr>
        <p:txBody>
          <a:bodyPr lIns="90000" rIns="90000" tIns="46800" bIns="46800" anchor="t">
            <a:normAutofit/>
          </a:bodyPr>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umerosos anuncios</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No pierda tiempo: el lema debiera ser “comenzar y terminar a tiempo.”</a:t>
            </a:r>
            <a:endParaRPr b="0" lang="en-US" sz="3600" spc="-1" strike="noStrike">
              <a:solidFill>
                <a:srgbClr val="f6e8ee"/>
              </a:solidFill>
              <a:latin typeface="Georgia"/>
            </a:endParaRPr>
          </a:p>
          <a:p>
            <a:pPr marL="343080" indent="-343080">
              <a:lnSpc>
                <a:spcPct val="10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cc"/>
                </a:solidFill>
                <a:latin typeface="Arial"/>
              </a:rPr>
              <a:t>Introducciones largas</a:t>
            </a:r>
            <a:endParaRPr b="0" lang="en-US" sz="3600" spc="-1" strike="noStrike">
              <a:solidFill>
                <a:srgbClr val="f6e8ee"/>
              </a:solidFill>
              <a:latin typeface="Georgi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304920"/>
            <a:ext cx="480060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Palabra clave</a:t>
            </a:r>
            <a:endParaRPr b="1" lang="en-US" sz="4800" spc="-1" strike="noStrike">
              <a:solidFill>
                <a:srgbClr val="7b3722"/>
              </a:solidFill>
              <a:latin typeface="Arial"/>
            </a:endParaRPr>
          </a:p>
        </p:txBody>
      </p:sp>
      <p:sp>
        <p:nvSpPr>
          <p:cNvPr id="124" name=""/>
          <p:cNvSpPr/>
          <p:nvPr/>
        </p:nvSpPr>
        <p:spPr>
          <a:xfrm>
            <a:off x="2895480" y="5104440"/>
            <a:ext cx="487692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Divulgue! ¡Divulgue! ¡Divulgue!</a:t>
            </a:r>
            <a:endParaRPr b="0" lang="en-US" sz="3200" spc="-1" strike="noStrike">
              <a:solidFill>
                <a:srgbClr val="f6e8ee"/>
              </a:solidFill>
              <a:latin typeface="Times New Roman"/>
            </a:endParaRPr>
          </a:p>
        </p:txBody>
      </p:sp>
      <p:sp>
        <p:nvSpPr>
          <p:cNvPr id="125" name=""/>
          <p:cNvSpPr txBox="1"/>
          <p:nvPr/>
        </p:nvSpPr>
        <p:spPr>
          <a:xfrm>
            <a:off x="2362320" y="2590920"/>
            <a:ext cx="5029200" cy="10382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rPr>
              <a:t>PROPAGANDA</a:t>
            </a:r>
            <a:endParaRPr b="0" lang="en-US" sz="4800" spc="1" strike="noStrike">
              <a:ln w="0">
                <a:noFill/>
              </a:ln>
              <a:gradFill rotWithShape="0">
                <a:gsLst>
                  <a:gs pos="0">
                    <a:srgbClr val="0033cc"/>
                  </a:gs>
                  <a:gs pos="100000">
                    <a:srgbClr val="0066ff"/>
                  </a:gs>
                </a:gsLst>
                <a:lin ang="5400000"/>
              </a:gradFill>
              <a:effectLst>
                <a:outerShdw dist="53966"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819160" y="456840"/>
            <a:ext cx="57150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incipios de </a:t>
            </a:r>
            <a:br>
              <a:rPr sz="4400"/>
            </a:br>
            <a:r>
              <a:rPr b="1" lang="es-ES" sz="4400" spc="-1" strike="noStrike">
                <a:solidFill>
                  <a:srgbClr val="2c223a"/>
                </a:solidFill>
                <a:latin typeface="Arial"/>
              </a:rPr>
              <a:t>propaganda</a:t>
            </a:r>
            <a:endParaRPr b="1" lang="en-US" sz="4400" spc="-1" strike="noStrike">
              <a:solidFill>
                <a:srgbClr val="7b3722"/>
              </a:solidFill>
              <a:latin typeface="Arial"/>
            </a:endParaRPr>
          </a:p>
        </p:txBody>
      </p:sp>
      <p:sp>
        <p:nvSpPr>
          <p:cNvPr id="127" name="PlaceHolder 2"/>
          <p:cNvSpPr>
            <a:spLocks noGrp="1"/>
          </p:cNvSpPr>
          <p:nvPr>
            <p:ph/>
          </p:nvPr>
        </p:nvSpPr>
        <p:spPr>
          <a:xfrm>
            <a:off x="838080" y="1904760"/>
            <a:ext cx="4724640" cy="3886200"/>
          </a:xfrm>
          <a:prstGeom prst="rect">
            <a:avLst/>
          </a:prstGeom>
          <a:noFill/>
          <a:ln w="0">
            <a:noFill/>
          </a:ln>
        </p:spPr>
        <p:txBody>
          <a:bodyPr lIns="90000" rIns="90000" tIns="46800" bIns="46800" anchor="t">
            <a:normAutofit/>
          </a:bodyPr>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Repetición</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Folletos para enviar a iglesias</a:t>
            </a:r>
            <a:endParaRPr b="0" lang="en-US" sz="3600" spc="-1" strike="noStrike">
              <a:solidFill>
                <a:srgbClr val="f6e8ee"/>
              </a:solidFill>
              <a:latin typeface="Georgia"/>
            </a:endParaRPr>
          </a:p>
          <a:p>
            <a:pPr marL="685800" indent="-685800">
              <a:lnSpc>
                <a:spcPct val="100000"/>
              </a:lnSpc>
              <a:spcBef>
                <a:spcPts val="9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Propaganda de diarios/radio</a:t>
            </a:r>
            <a:endParaRPr b="0" lang="en-US" sz="3600" spc="-1" strike="noStrike">
              <a:solidFill>
                <a:srgbClr val="f6e8ee"/>
              </a:solidFill>
              <a:latin typeface="Georgia"/>
            </a:endParaRPr>
          </a:p>
        </p:txBody>
      </p:sp>
      <p:pic>
        <p:nvPicPr>
          <p:cNvPr id="128"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685440"/>
            <a:ext cx="876276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Arial"/>
              </a:rPr>
              <a:t>Subcomisiones y responsabilidades</a:t>
            </a:r>
            <a:endParaRPr b="1" lang="en-US" sz="4800" spc="-1" strike="noStrike">
              <a:solidFill>
                <a:srgbClr val="7b3722"/>
              </a:solidFill>
              <a:latin typeface="Arial"/>
            </a:endParaRPr>
          </a:p>
        </p:txBody>
      </p:sp>
      <p:sp>
        <p:nvSpPr>
          <p:cNvPr id="130" name="PlaceHolder 2"/>
          <p:cNvSpPr>
            <a:spLocks noGrp="1"/>
          </p:cNvSpPr>
          <p:nvPr>
            <p:ph/>
          </p:nvPr>
        </p:nvSpPr>
        <p:spPr>
          <a:xfrm>
            <a:off x="762120" y="2209320"/>
            <a:ext cx="3504960" cy="4038840"/>
          </a:xfrm>
          <a:prstGeom prst="rect">
            <a:avLst/>
          </a:prstGeom>
          <a:noFill/>
          <a:ln w="0">
            <a:noFill/>
          </a:ln>
        </p:spPr>
        <p:txBody>
          <a:bodyPr lIns="90000" rIns="90000" tIns="46800" bIns="46800" anchor="t">
            <a:normAutofit/>
          </a:bodyPr>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Programa</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Hospitalidad</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Audio Visual</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Ujieres</a:t>
            </a:r>
            <a:endParaRPr b="0" lang="en-US" sz="3200" spc="-1" strike="noStrike">
              <a:solidFill>
                <a:srgbClr val="f6e8ee"/>
              </a:solidFill>
              <a:latin typeface="Georgia"/>
            </a:endParaRPr>
          </a:p>
          <a:p>
            <a:pPr marL="685800" indent="-685800">
              <a:lnSpc>
                <a:spcPct val="125000"/>
              </a:lnSpc>
              <a:spcBef>
                <a:spcPts val="7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Música</a:t>
            </a:r>
            <a:endParaRPr b="0" lang="en-US" sz="3200" spc="-1" strike="noStrike">
              <a:solidFill>
                <a:srgbClr val="f6e8ee"/>
              </a:solidFill>
              <a:latin typeface="Georgia"/>
            </a:endParaRPr>
          </a:p>
        </p:txBody>
      </p:sp>
      <p:sp>
        <p:nvSpPr>
          <p:cNvPr id="131" name=""/>
          <p:cNvSpPr/>
          <p:nvPr/>
        </p:nvSpPr>
        <p:spPr>
          <a:xfrm>
            <a:off x="4419720" y="2362320"/>
            <a:ext cx="464796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Fotógrafo/filmador</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Equipo de limpieza</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Inscrip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Decoración</a:t>
            </a:r>
            <a:endParaRPr b="0" lang="en-US" sz="3200" spc="-1" strike="noStrike">
              <a:solidFill>
                <a:srgbClr val="f6e8ee"/>
              </a:solidFill>
              <a:latin typeface="Times New Roman"/>
            </a:endParaRPr>
          </a:p>
          <a:p>
            <a:pPr marL="457200" indent="-457200">
              <a:lnSpc>
                <a:spcPct val="100000"/>
              </a:lnSpc>
              <a:spcBef>
                <a:spcPts val="2001"/>
              </a:spcBef>
              <a:buClr>
                <a:srgbClr val="00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Oración</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4343400"/>
            <a:ext cx="7543800" cy="1905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33cc"/>
                </a:solidFill>
                <a:latin typeface="Arial"/>
              </a:rPr>
              <a:t>El enfoque de un programa es el ministeri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990720"/>
            <a:ext cx="685800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33cc"/>
                </a:solidFill>
                <a:latin typeface="Arial"/>
              </a:rPr>
              <a:t>La planificación de un programa puede compararse con un artista que pinta un cuadro.</a:t>
            </a:r>
            <a:endParaRPr b="1" lang="en-US" sz="4000" spc="-1" strike="noStrike">
              <a:solidFill>
                <a:srgbClr val="7b3722"/>
              </a:solidFill>
              <a:latin typeface="Arial"/>
            </a:endParaRPr>
          </a:p>
        </p:txBody>
      </p:sp>
      <p:sp>
        <p:nvSpPr>
          <p:cNvPr id="92" name="PlaceHolder 2"/>
          <p:cNvSpPr>
            <a:spLocks noGrp="1"/>
          </p:cNvSpPr>
          <p:nvPr>
            <p:ph type="subTitle"/>
          </p:nvPr>
        </p:nvSpPr>
        <p:spPr>
          <a:xfrm>
            <a:off x="228600" y="3276360"/>
            <a:ext cx="6324480" cy="19047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41436c"/>
                </a:solidFill>
                <a:latin typeface="Arial"/>
              </a:rPr>
              <a:t>Del mismo modo, preguntamos:</a:t>
            </a:r>
            <a:r>
              <a:rPr b="0" lang="es-ES" sz="2800" spc="-1" strike="noStrike">
                <a:solidFill>
                  <a:srgbClr val="f6e8ee"/>
                </a:solidFill>
                <a:latin typeface="Georgia"/>
              </a:rPr>
              <a:t> </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deseamos transmitir en este programa?</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cc"/>
                </a:solidFill>
                <a:latin typeface="Georgia"/>
              </a:rPr>
              <a:t>¿Qué queremos que recuerden?</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523520"/>
            <a:ext cx="5334120" cy="403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33cc"/>
                </a:solidFill>
                <a:latin typeface="Arial"/>
              </a:rPr>
              <a:t>Somos únicamente instrumentos de Dios. Este es Su programa. Él nos está utilizando para planificarlo.</a:t>
            </a:r>
            <a:endParaRPr b="1" lang="en-US" sz="4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62320"/>
            <a:ext cx="3124080" cy="2133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0033cc"/>
                </a:solidFill>
                <a:latin typeface="Arial"/>
              </a:rPr>
              <a:t>Oración, oración, oración, ¡y más oración!</a:t>
            </a:r>
            <a:endParaRPr b="1" lang="en-US" sz="54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0720" y="380880"/>
            <a:ext cx="66294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6" name="PlaceHolder 2"/>
          <p:cNvSpPr>
            <a:spLocks noGrp="1"/>
          </p:cNvSpPr>
          <p:nvPr>
            <p:ph/>
          </p:nvPr>
        </p:nvSpPr>
        <p:spPr>
          <a:xfrm>
            <a:off x="990720" y="2133720"/>
            <a:ext cx="7696080" cy="3047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Por dónde comienzo?</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Cómo puedo asegurar efectividad?</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errá venir la gente? </a:t>
            </a:r>
            <a:endParaRPr b="0" lang="en-US" sz="3000" spc="-1" strike="noStrike">
              <a:solidFill>
                <a:srgbClr val="f6e8ee"/>
              </a:solidFill>
              <a:latin typeface="Georgia"/>
            </a:endParaRPr>
          </a:p>
          <a:p>
            <a:pPr marL="343080" indent="-343080">
              <a:lnSpc>
                <a:spcPct val="10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cc"/>
                </a:solidFill>
                <a:latin typeface="Arial"/>
              </a:rPr>
              <a:t>¿Qué hará que el programa sea efectivo? </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06640" y="533160"/>
            <a:ext cx="803736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Preguntas frecuentes</a:t>
            </a:r>
            <a:endParaRPr b="1" lang="en-US" sz="4400" spc="-1" strike="noStrike">
              <a:solidFill>
                <a:srgbClr val="7b3722"/>
              </a:solidFill>
              <a:latin typeface="Arial"/>
            </a:endParaRPr>
          </a:p>
        </p:txBody>
      </p:sp>
      <p:sp>
        <p:nvSpPr>
          <p:cNvPr id="98" name="PlaceHolder 2"/>
          <p:cNvSpPr>
            <a:spLocks noGrp="1"/>
          </p:cNvSpPr>
          <p:nvPr>
            <p:ph/>
          </p:nvPr>
        </p:nvSpPr>
        <p:spPr>
          <a:xfrm>
            <a:off x="990720" y="2133720"/>
            <a:ext cx="7619760" cy="3504960"/>
          </a:xfrm>
          <a:prstGeom prst="rect">
            <a:avLst/>
          </a:prstGeom>
          <a:noFill/>
          <a:ln w="0">
            <a:noFill/>
          </a:ln>
        </p:spPr>
        <p:txBody>
          <a:bodyPr lIns="90000" rIns="90000" tIns="46800" bIns="46800" anchor="t">
            <a:normAutofit/>
          </a:bodyPr>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ómo evaluaré su éxito?</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Cuál es el mejor método de publicidad?</a:t>
            </a:r>
            <a:endParaRPr b="0" lang="en-US" sz="3400" spc="-1" strike="noStrike">
              <a:solidFill>
                <a:srgbClr val="f6e8ee"/>
              </a:solidFill>
              <a:latin typeface="Georgia"/>
            </a:endParaRPr>
          </a:p>
          <a:p>
            <a:pPr marL="343080" indent="-343080">
              <a:lnSpc>
                <a:spcPct val="100000"/>
              </a:lnSpc>
              <a:spcBef>
                <a:spcPts val="8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33cc"/>
                </a:solidFill>
                <a:latin typeface="Arial"/>
              </a:rPr>
              <a:t>¿Hay un presupuesto?</a:t>
            </a:r>
            <a:endParaRPr b="0" lang="en-US" sz="3400" spc="-1" strike="noStrike">
              <a:solidFill>
                <a:srgbClr val="f6e8ee"/>
              </a:solidFill>
              <a:latin typeface="Georgia"/>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914040"/>
            <a:ext cx="7925040" cy="15238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Forme su comisión de planificación</a:t>
            </a:r>
            <a:endParaRPr b="1" lang="en-US" sz="4400" spc="-1" strike="noStrike">
              <a:solidFill>
                <a:srgbClr val="7b3722"/>
              </a:solidFill>
              <a:latin typeface="Arial"/>
            </a:endParaRPr>
          </a:p>
        </p:txBody>
      </p:sp>
      <p:sp>
        <p:nvSpPr>
          <p:cNvPr id="100" name="PlaceHolder 2"/>
          <p:cNvSpPr>
            <a:spLocks noGrp="1"/>
          </p:cNvSpPr>
          <p:nvPr>
            <p:ph type="subTitle"/>
          </p:nvPr>
        </p:nvSpPr>
        <p:spPr>
          <a:xfrm>
            <a:off x="733320" y="3200040"/>
            <a:ext cx="7648560" cy="1066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A. Apoyo: moral, espiritual, físico   </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B. Equilibrio</a:t>
            </a:r>
            <a:endParaRPr b="0" lang="en-US" sz="3200" spc="-1" strike="noStrike">
              <a:solidFill>
                <a:srgbClr val="f6e8ee"/>
              </a:solidFill>
              <a:latin typeface="Georgia"/>
            </a:endParaRPr>
          </a:p>
        </p:txBody>
      </p:sp>
      <p:sp>
        <p:nvSpPr>
          <p:cNvPr id="101" name=""/>
          <p:cNvSpPr/>
          <p:nvPr/>
        </p:nvSpPr>
        <p:spPr>
          <a:xfrm>
            <a:off x="342900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Arial"/>
              </a:rPr>
              <a:t>Paso 1:</a:t>
            </a:r>
            <a:endParaRPr b="0" lang="en-US" sz="32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rial"/>
              </a:rPr>
              <a:t>Cómo elegir una comisión equilibrada</a:t>
            </a:r>
            <a:endParaRPr b="1" lang="en-US" sz="4400" spc="-1" strike="noStrike">
              <a:solidFill>
                <a:srgbClr val="7b3722"/>
              </a:solidFill>
              <a:latin typeface="Arial"/>
            </a:endParaRPr>
          </a:p>
        </p:txBody>
      </p:sp>
      <p:sp>
        <p:nvSpPr>
          <p:cNvPr id="103" name="PlaceHolder 2"/>
          <p:cNvSpPr>
            <a:spLocks noGrp="1"/>
          </p:cNvSpPr>
          <p:nvPr>
            <p:ph/>
          </p:nvPr>
        </p:nvSpPr>
        <p:spPr>
          <a:xfrm>
            <a:off x="990720" y="2438280"/>
            <a:ext cx="4876560" cy="1866960"/>
          </a:xfrm>
          <a:prstGeom prst="rect">
            <a:avLst/>
          </a:prstGeom>
          <a:noFill/>
          <a:ln w="0">
            <a:noFill/>
          </a:ln>
        </p:spPr>
        <p:txBody>
          <a:bodyPr lIns="90000" rIns="90000" tIns="46800" bIns="46800" anchor="t">
            <a:normAutofit/>
          </a:bodyPr>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tacto personal</a:t>
            </a:r>
            <a:endParaRPr b="0" lang="en-US" sz="3200" spc="-1" strike="noStrike">
              <a:solidFill>
                <a:srgbClr val="f6e8ee"/>
              </a:solidFill>
              <a:latin typeface="Georgia"/>
            </a:endParaRPr>
          </a:p>
          <a:p>
            <a:pPr marL="399960" indent="-399960">
              <a:lnSpc>
                <a:spcPct val="80000"/>
              </a:lnSpc>
              <a:spcBef>
                <a:spcPts val="7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a:rPr>
              <a:t>Consulte con el pastor y otros líderes en quienes confí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Nelida Leguizamon</cp:lastModifiedBy>
  <dcterms:modified xsi:type="dcterms:W3CDTF">2006-06-12T17:21:58Z</dcterms:modified>
  <cp:revision>32</cp:revision>
  <dc:subject> </dc:subject>
  <dc:title>The focus of program planning is ministry.</dc:title>
</cp:coreProperties>
</file>